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3A4B-9A7E-4588-9CE0-F2680AB4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70C0-7AC9-4D58-97F8-E23B6A21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67E4-B4DD-4997-8487-128C0289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EDF2-B97E-4BC5-A43F-53489376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1FAF-3D2F-452B-87B3-7D3880CC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0B13-4A00-4FF0-A913-F02817E8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4167-CEC5-4D6E-8313-BC2121B6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D9A5-DCB4-473D-8BC8-78C42374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E3D7-81AA-4062-B44C-8997D098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E9B4-E0D8-4145-A05F-F0D57E47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5305-67B3-4563-9F53-2A5C2EC2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036B-BA69-4968-96BA-F46EC540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6EFE-6E90-40EB-8400-F935197F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4400-1871-4D5A-BEDD-5887E602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2F34-7240-4002-9F5B-40164FA1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249C-D0D8-4469-BD0D-25BD4ED3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C989-824F-40F9-9DFD-B9EAC783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37EA-0F31-4653-A0A6-BD1A6DDF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3969-5A12-440F-9D74-D5C36FC9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D90C-D0C8-40DB-AB4E-9FF754A2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8BD6-A91A-483D-B261-005194D3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9AB2-5B05-421A-80F1-2402A1EF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65B0-3B94-4809-8634-34926E29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DFA9-D75D-469A-9C69-FAFA6041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64DF-50B3-41F4-884A-8911BDB7E2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6D31-5811-4C30-BEE5-B68F1DAB7F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/imgres?imgurl=http://www.aboriginalfootball.com.au/AF-0307-WAFLlogo.jpg&amp;imgrefurl=http://www.aboriginalfootball.com.au/wafl.html&amp;h=150&amp;w=142&amp;sz=17&amp;hl=en&amp;start=4&amp;um=1&amp;tbnid=4xdnYOq89ESbjM:&amp;tbnh=96&amp;tbnw=91&amp;prev=/images%3Fq%3Dgraham%2Bfarmer%2Bfootballer%26um%3D1%26hl%3Den%26safe%3Dstrict%26rls%3Dcom.microsoft:en-au%26sa%3DN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Papyrus"/>
              </a:rPr>
              <a:t>Graham Farmer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 rot="809400">
            <a:off x="7092720" y="4508640"/>
            <a:ext cx="1850760" cy="1698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15130200">
            <a:off x="392040" y="4584240"/>
            <a:ext cx="1850760" cy="1698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484360" y="6858000"/>
            <a:ext cx="417672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100"/>
                            </p:stCondLst>
                            <p:childTnLst>
                              <p:par>
                                <p:cTn id="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29226 L 0 -0.76139 E">
                                      <p:cBhvr>
                                        <p:cTn id="1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rot="21181200">
            <a:off x="468360" y="1052640"/>
            <a:ext cx="4535280" cy="4680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724360" y="1628640"/>
            <a:ext cx="29512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Graham “Polly” Farmer played in the Cats team in Geelo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Geelong captain from 1965 to 19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 rot="3956400">
            <a:off x="6125760" y="4827600"/>
            <a:ext cx="1711080" cy="179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 rot="471000">
            <a:off x="754200" y="703440"/>
            <a:ext cx="3887640" cy="5256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148360" y="1916280"/>
            <a:ext cx="33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2637000"/>
            <a:ext cx="287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Member of the 1963 premiership t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rot="20216400">
            <a:off x="6443280" y="4508280"/>
            <a:ext cx="18144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>
            <a:lum bright="18000"/>
          </a:blip>
          <a:stretch/>
        </p:blipFill>
        <p:spPr>
          <a:xfrm rot="21146400">
            <a:off x="826560" y="1125360"/>
            <a:ext cx="3543480" cy="4824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651640" y="1989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1916280"/>
            <a:ext cx="244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First Ruck in the AFL Team of the Century. AFL leg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4797360"/>
            <a:ext cx="201456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 rot="21432600">
            <a:off x="1979280" y="-3484080"/>
            <a:ext cx="3600360" cy="3267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867280" y="11970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rot="20216400">
            <a:off x="6587640" y="4292280"/>
            <a:ext cx="1814760" cy="1812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940360" y="2565360"/>
            <a:ext cx="295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This is stamps of Graham “Polly” Far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 rot="410400">
            <a:off x="250560" y="7174080"/>
            <a:ext cx="35971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2696 L 1.94444E-006 0.60255 E">
                                      <p:cBhvr>
                                        <p:cTn id="43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17595 L 0.00018 -0.5089 E">
                                      <p:cBhvr>
                                        <p:cTn id="45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2:01:19Z</dcterms:created>
  <dc:creator>Reservoir District Secondary College</dc:creator>
  <dc:description/>
  <dc:language>en-US</dc:language>
  <cp:lastModifiedBy>Reservoir District Secondary College</cp:lastModifiedBy>
  <dcterms:modified xsi:type="dcterms:W3CDTF">2008-07-17T02:17:57Z</dcterms:modified>
  <cp:revision>7</cp:revision>
  <dc:subject/>
  <dc:title>Graham Farmer </dc:title>
</cp:coreProperties>
</file>